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9D6-484C-4535-9E14-3C80407DE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5A1E-FDE3-45C5-AD2B-4E451A1B9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78D-49DA-4BAA-B4EF-D2AC5332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377-D5C2-440E-A683-285ABEB41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CED-8D1B-4C56-BD92-6C6D32EA9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F142-F9F9-4EA6-810A-A002C1AF3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FAB6-E050-4AC5-B6F3-F07EA5271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556-90F2-42A9-9191-1D389F89E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16A-B2B7-4402-A2D3-C0B802A96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E81-355E-4900-8BA6-BE9EAD5DB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08A5-46B7-41A1-9264-7ECE2C647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D85-1BE4-48CF-A1DB-ACF790B02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B07-3C64-4D34-89A3-2ABC8483D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EC4-DCD8-493B-939B-7C84527CF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61EA-2AD7-4056-AD1D-280649EC0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9CA-E2A4-442A-A396-192DD415A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8EF-C6D9-4D1A-BD77-ED7612FDA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0929-F8D3-40DE-ABB2-D2E4861BF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0D6-0DFF-4D98-8FBD-148CBBC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072-686F-4864-A36B-06D955B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BC7-CD83-41A9-9486-A2D4703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4CC-8BBE-4DCD-9CB6-784583BE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E0E-D079-4549-B34C-B73B933A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991-C569-49C6-9A39-ED6A715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91C-4EFB-4631-8FA5-B3105F8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F08-06D7-4E4A-9A65-7634FE0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443-7CD8-40BE-A0B6-919078B1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759-290D-4F0B-A935-896A2B6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E93-BEE0-4A4E-A3DA-4E3AA6B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015-4E57-4E6B-AFED-94748273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E6B-4D70-432D-9D8F-E99E701B4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2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bush41.jpg"/>
          <p:cNvPicPr/>
          <p:nvPr/>
        </p:nvPicPr>
        <p:blipFill>
          <a:blip r:embed="rId1"/>
          <a:stretch/>
        </p:blipFill>
        <p:spPr>
          <a:xfrm>
            <a:off x="838080" y="1905120"/>
            <a:ext cx="1981440" cy="231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linton2.bmp"/>
          <p:cNvPicPr/>
          <p:nvPr/>
        </p:nvPicPr>
        <p:blipFill>
          <a:blip r:embed="rId2"/>
          <a:stretch/>
        </p:blipFill>
        <p:spPr>
          <a:xfrm>
            <a:off x="3429000" y="1828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erot.bmp"/>
          <p:cNvPicPr/>
          <p:nvPr/>
        </p:nvPicPr>
        <p:blipFill>
          <a:blip r:embed="rId3"/>
          <a:stretch/>
        </p:blipFill>
        <p:spPr>
          <a:xfrm>
            <a:off x="6400800" y="1752480"/>
            <a:ext cx="2209680" cy="2497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38080" y="48769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505320" y="4876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324480" y="48769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s Per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orm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2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992 election.bmp"/>
          <p:cNvPicPr/>
          <p:nvPr/>
        </p:nvPicPr>
        <p:blipFill>
          <a:blip r:embed="rId1"/>
          <a:stretch/>
        </p:blipFill>
        <p:spPr>
          <a:xfrm>
            <a:off x="1930320" y="1981080"/>
            <a:ext cx="5232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5" descr="clinton3.jpg"/>
          <p:cNvPicPr/>
          <p:nvPr/>
        </p:nvPicPr>
        <p:blipFill>
          <a:blip r:embed="rId1"/>
          <a:stretch/>
        </p:blipFill>
        <p:spPr>
          <a:xfrm>
            <a:off x="457200" y="1523880"/>
            <a:ext cx="400860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952880" y="1295280"/>
            <a:ext cx="3657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or of Arkans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n womaniz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mpted to create a national health car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ted by conservatives who launched multiple investigations attempting to dig up dirt on h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erm noted for economic growth and government surpl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did not have sexual relations with that woman, Miss Lewinsky…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clinton4.jpg"/>
          <p:cNvPicPr/>
          <p:nvPr/>
        </p:nvPicPr>
        <p:blipFill>
          <a:blip r:embed="rId1"/>
          <a:stretch/>
        </p:blipFill>
        <p:spPr>
          <a:xfrm>
            <a:off x="1066680" y="1981080"/>
            <a:ext cx="3353040" cy="391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lewinsky.jpg"/>
          <p:cNvPicPr/>
          <p:nvPr/>
        </p:nvPicPr>
        <p:blipFill>
          <a:blip r:embed="rId2"/>
          <a:stretch/>
        </p:blipFill>
        <p:spPr>
          <a:xfrm>
            <a:off x="5715000" y="2133720"/>
            <a:ext cx="26100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ewinsky Sca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lewinsky2.jpg"/>
          <p:cNvPicPr/>
          <p:nvPr/>
        </p:nvPicPr>
        <p:blipFill>
          <a:blip r:embed="rId1"/>
          <a:stretch/>
        </p:blipFill>
        <p:spPr>
          <a:xfrm>
            <a:off x="228600" y="1981080"/>
            <a:ext cx="2457360" cy="328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lewinsky3.jpg"/>
          <p:cNvPicPr/>
          <p:nvPr/>
        </p:nvPicPr>
        <p:blipFill>
          <a:blip r:embed="rId2"/>
          <a:stretch/>
        </p:blipFill>
        <p:spPr>
          <a:xfrm>
            <a:off x="3124080" y="1600200"/>
            <a:ext cx="26733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ewinsky4.jpg"/>
          <p:cNvPicPr/>
          <p:nvPr/>
        </p:nvPicPr>
        <p:blipFill>
          <a:blip r:embed="rId3"/>
          <a:stretch/>
        </p:blipFill>
        <p:spPr>
          <a:xfrm>
            <a:off x="3733920" y="4419720"/>
            <a:ext cx="13683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linton5.jpg"/>
          <p:cNvPicPr/>
          <p:nvPr/>
        </p:nvPicPr>
        <p:blipFill>
          <a:blip r:embed="rId4"/>
          <a:stretch/>
        </p:blipFill>
        <p:spPr>
          <a:xfrm>
            <a:off x="6095880" y="2438280"/>
            <a:ext cx="28018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5" descr="clinton4.jpg"/>
          <p:cNvPicPr/>
          <p:nvPr/>
        </p:nvPicPr>
        <p:blipFill>
          <a:blip r:embed="rId1"/>
          <a:stretch/>
        </p:blipFill>
        <p:spPr>
          <a:xfrm>
            <a:off x="609480" y="1981080"/>
            <a:ext cx="3273480" cy="3824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4572000" y="1600200"/>
            <a:ext cx="4191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s investigated for perjury and obstruction of justice relating to the Lewinsky aff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impeached by the House, but not convicted by the Se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 attempts at striking Al-Qaeda were dismissed by Republicans as trying to distract public attention from the Lewinsky scan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the scandal, Gore tries to distance himself from Clinton when he runs for President in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y2k.jpg"/>
          <p:cNvPicPr/>
          <p:nvPr/>
        </p:nvPicPr>
        <p:blipFill>
          <a:blip r:embed="rId1"/>
          <a:stretch/>
        </p:blipFill>
        <p:spPr>
          <a:xfrm>
            <a:off x="2133720" y="685800"/>
            <a:ext cx="5029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2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y2k2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72000" cy="2752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80880" y="411480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s programmed with only 2 digits for the year were supposed to crash as the year turned from 1999 to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fears that nuclear missiles could launch due to the computer b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ions stocked up on supplies and prepared for the end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beck1.jpg"/>
          <p:cNvPicPr/>
          <p:nvPr/>
        </p:nvPicPr>
        <p:blipFill>
          <a:blip r:embed="rId1"/>
          <a:stretch/>
        </p:blipFill>
        <p:spPr>
          <a:xfrm>
            <a:off x="4648320" y="3868560"/>
            <a:ext cx="416232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odelay1.jpg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360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800600" y="15238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It’s A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d in 19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linton1.jpg"/>
          <p:cNvPicPr/>
          <p:nvPr/>
        </p:nvPicPr>
        <p:blipFill>
          <a:blip r:embed="rId1"/>
          <a:stretch/>
        </p:blipFill>
        <p:spPr>
          <a:xfrm>
            <a:off x="457200" y="838080"/>
            <a:ext cx="3316320" cy="24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n64a.bmp"/>
          <p:cNvPicPr/>
          <p:nvPr/>
        </p:nvPicPr>
        <p:blipFill>
          <a:blip r:embed="rId2"/>
          <a:stretch/>
        </p:blipFill>
        <p:spPr>
          <a:xfrm>
            <a:off x="4495680" y="1676520"/>
            <a:ext cx="1866960" cy="125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64b.jpg"/>
          <p:cNvPicPr/>
          <p:nvPr/>
        </p:nvPicPr>
        <p:blipFill>
          <a:blip r:embed="rId3"/>
          <a:stretch/>
        </p:blipFill>
        <p:spPr>
          <a:xfrm>
            <a:off x="6629400" y="114300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ollythe sheep.jpg"/>
          <p:cNvPicPr/>
          <p:nvPr/>
        </p:nvPicPr>
        <p:blipFill>
          <a:blip r:embed="rId4"/>
          <a:stretch/>
        </p:blipFill>
        <p:spPr>
          <a:xfrm>
            <a:off x="228600" y="4267080"/>
            <a:ext cx="2827440" cy="17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osamabinladen.jpg"/>
          <p:cNvPicPr/>
          <p:nvPr/>
        </p:nvPicPr>
        <p:blipFill>
          <a:blip r:embed="rId5"/>
          <a:stretch/>
        </p:blipFill>
        <p:spPr>
          <a:xfrm>
            <a:off x="3352680" y="3733920"/>
            <a:ext cx="1886040" cy="24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tupac hologram.jpg"/>
          <p:cNvPicPr/>
          <p:nvPr/>
        </p:nvPicPr>
        <p:blipFill>
          <a:blip r:embed="rId6"/>
          <a:stretch/>
        </p:blipFill>
        <p:spPr>
          <a:xfrm>
            <a:off x="5410080" y="3962520"/>
            <a:ext cx="34718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History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may choose to work in a group of no more than th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may choose to work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udent who works in a group MUST turn in a journal of their contribution to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are in your groups, spend the next fifteen minutes brainstorming ideas for your interview su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What caused the Watergate scand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What happened in Iran in 197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What political party did Ronald Reagan belong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What was Roe v. W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Name two reasons why communism began to die in the Soviet U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What is the best ‘80s movie of all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1980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saddam rumsfeld.jpg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osamabinladen2.jpg"/>
          <p:cNvPicPr/>
          <p:nvPr/>
        </p:nvPicPr>
        <p:blipFill>
          <a:blip r:embed="rId2"/>
          <a:stretch/>
        </p:blipFill>
        <p:spPr>
          <a:xfrm>
            <a:off x="380880" y="43434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267080" y="1600200"/>
            <a:ext cx="441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re to keep communism in check led America to make friends with some bad d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ddam Huss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ama Bin La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enemy of my enemy is my friend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 Desert St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iraq.jpg"/>
          <p:cNvPicPr/>
          <p:nvPr/>
        </p:nvPicPr>
        <p:blipFill>
          <a:blip r:embed="rId1"/>
          <a:stretch/>
        </p:blipFill>
        <p:spPr>
          <a:xfrm>
            <a:off x="838080" y="1981080"/>
            <a:ext cx="324972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572000" y="152388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990: Iraqi dictator Saddam Hussein invades the small, oil-rich nation of Kuwa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ssein is given a deadline to get out of Kuwait.  He refus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, backed by a large coalition, begins bombing Iraq.  The war lasts for forty days before Kuwait is lib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eople thought that we should have kept fighting until we took out Sad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these guy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rumsfeld.jpg"/>
          <p:cNvPicPr/>
          <p:nvPr/>
        </p:nvPicPr>
        <p:blipFill>
          <a:blip r:embed="rId1"/>
          <a:stretch/>
        </p:blipFill>
        <p:spPr>
          <a:xfrm>
            <a:off x="228600" y="1295280"/>
            <a:ext cx="389736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heney.jpg"/>
          <p:cNvPicPr/>
          <p:nvPr/>
        </p:nvPicPr>
        <p:blipFill>
          <a:blip r:embed="rId2"/>
          <a:stretch/>
        </p:blipFill>
        <p:spPr>
          <a:xfrm>
            <a:off x="4206960" y="3352680"/>
            <a:ext cx="4373640" cy="3124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990720" y="4495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ald Rumsf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6386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k Che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5:10:04Z</dcterms:created>
  <dc:creator>mahluma</dc:creator>
  <dc:description/>
  <dc:language>en-US</dc:language>
  <cp:lastModifiedBy>Rob</cp:lastModifiedBy>
  <dcterms:modified xsi:type="dcterms:W3CDTF">2012-05-14T06:43:26Z</dcterms:modified>
  <cp:revision>130</cp:revision>
  <dc:subject/>
  <dc:title>Slide 1</dc:title>
</cp:coreProperties>
</file>